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0A4-F324-451C-ACA5-DE69CDB0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6E4-8FDC-4BE4-AA80-95E9436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B13-3302-4890-A296-F160FCBA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D7F-19E6-4F26-9E39-7481DC03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32F-4595-428F-A0AB-BD9AA1F4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D84-DDFA-4BCB-82AC-20DF8554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A39-E56D-421D-B0F0-391407C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D90-3137-4E60-A747-FD35283A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0B0-4492-408E-B463-75BE2131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8BA-F15C-4BD5-AD09-5A70DAE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D25-B093-4C05-93C1-55371984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E16-0D7B-4D6E-BC91-26464FC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FE05-62FA-4B42-B38D-C45A949D3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18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1219320"/>
            <a:ext cx="46479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 ينظُر الربُّ إلي؟ فيَجْبُرَ قلبي الكسي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ثم يُكَفكِفُ الدموعْ عن وجهِ ذا الخاطي الكبير؟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10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 ينظُرُ الفادي المسيحْ إلى مَن روحُهُ جريح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ْ مَن يُقَوِّم الكسيحْ ويُنعشُ المَيتَ الطريحْ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85800"/>
            <a:ext cx="4572000" cy="74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ff"/>
                </a:solidFill>
                <a:latin typeface="Times New Roman"/>
                <a:cs typeface="Arabic Transparent"/>
              </a:rPr>
              <a:t>هل يُنِقذُ الربُّ الشعوبْ ويَفتَديها مِن ذُنوب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ff"/>
                </a:solidFill>
                <a:latin typeface="Times New Roman"/>
                <a:cs typeface="Arabic Transparent"/>
              </a:rPr>
              <a:t>هل مِن نَجاةٍ في الصليبْ تَحمي البَعيدَ والقَريب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16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80880"/>
            <a:ext cx="29718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لا أتى الروحُ القُدُسْ مُقَدِّساً ذا الجَسَدَ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ع ضَعفهِ وإثمهِ بهِ يحلُّ لِلمدى؟</a:t>
            </a:r>
            <a:r>
              <a:rPr b="0" lang="ar-SA" sz="4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0:24:23Z</dcterms:created>
  <dc:creator>SUZANNE.MD</dc:creator>
  <dc:description/>
  <dc:language>en-US</dc:language>
  <cp:lastModifiedBy>HANI SAFI</cp:lastModifiedBy>
  <dcterms:modified xsi:type="dcterms:W3CDTF">2003-03-17T14:27:39Z</dcterms:modified>
  <cp:revision>2</cp:revision>
  <dc:subject/>
  <dc:title>PowerPoint Presentation</dc:title>
</cp:coreProperties>
</file>